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A031-E0F7-4939-9607-5287D0CFD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4606-CBA2-43C3-BA02-B5E61854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7FC9-B029-4045-845E-7E8006444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383B-A24F-48FA-B41B-025C5F1AF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A464-1CE8-4E2F-AE87-46E737F4C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951C-6884-4FBC-B485-F79AB723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FCC-A0EA-4673-84D7-AB1A93394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45F1-5CCC-46B3-88C6-135AAE21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ED7E-6ADC-42E3-9E9E-106EAFDE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A34-828F-4B84-ABDF-38BC6D23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CBFE-C03F-467A-907E-787AC1FCF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3464-5EEA-4D95-88FA-A4AE1429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BED54-4CB8-4A30-A674-01BC14AEF8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Historic Photos &amp; Postcards of Little Rock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RSD Third Grade Social Stud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8b32403r"/>
          <p:cNvPicPr/>
          <p:nvPr/>
        </p:nvPicPr>
        <p:blipFill>
          <a:blip r:embed="rId1"/>
          <a:stretch/>
        </p:blipFill>
        <p:spPr>
          <a:xfrm>
            <a:off x="762120" y="228600"/>
            <a:ext cx="4906800" cy="61722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6172200" y="190512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rothea Lange, 1938.  Library of Congress Prints and Photographs Divi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33520" y="617220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th Street, 1941.  Mosaic Templars Cultural Cent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3" descr="9th-street1941"/>
          <p:cNvPicPr/>
          <p:nvPr/>
        </p:nvPicPr>
        <p:blipFill>
          <a:blip r:embed="rId1"/>
          <a:stretch/>
        </p:blipFill>
        <p:spPr>
          <a:xfrm>
            <a:off x="609480" y="228600"/>
            <a:ext cx="75438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mainstret"/>
          <p:cNvPicPr/>
          <p:nvPr/>
        </p:nvPicPr>
        <p:blipFill>
          <a:blip r:embed="rId1"/>
          <a:stretch/>
        </p:blipFill>
        <p:spPr>
          <a:xfrm>
            <a:off x="838080" y="304920"/>
            <a:ext cx="7162920" cy="54021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685800" y="5791320"/>
            <a:ext cx="77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in Street, looking south from Markham,  ca. 1950-195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514145701_be63a0687e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5651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380880" y="6172200"/>
            <a:ext cx="822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wntown Little Rock, 1958.  Thomas O’Halloran.  Library of Congress Prints and Photographs Divis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LRBridgeTwo1-thumb"/>
          <p:cNvPicPr/>
          <p:nvPr/>
        </p:nvPicPr>
        <p:blipFill>
          <a:blip r:embed="rId1"/>
          <a:stretch/>
        </p:blipFill>
        <p:spPr>
          <a:xfrm>
            <a:off x="2286000" y="598320"/>
            <a:ext cx="4191120" cy="26942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litdt_phototour17"/>
          <p:cNvPicPr/>
          <p:nvPr/>
        </p:nvPicPr>
        <p:blipFill>
          <a:blip r:embed="rId2"/>
          <a:stretch/>
        </p:blipFill>
        <p:spPr>
          <a:xfrm>
            <a:off x="2286000" y="3505320"/>
            <a:ext cx="4191120" cy="29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Little_Rock_23_sm"/>
          <p:cNvPicPr/>
          <p:nvPr/>
        </p:nvPicPr>
        <p:blipFill>
          <a:blip r:embed="rId1"/>
          <a:stretch/>
        </p:blipFill>
        <p:spPr>
          <a:xfrm>
            <a:off x="455760" y="341280"/>
            <a:ext cx="7850160" cy="58881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914400" y="6400800"/>
            <a:ext cx="59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iver Rail Streetcar.  John Smatlak, 200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OSH_Union_f"/>
          <p:cNvPicPr/>
          <p:nvPr/>
        </p:nvPicPr>
        <p:blipFill>
          <a:blip r:embed="rId1"/>
          <a:stretch/>
        </p:blipFill>
        <p:spPr>
          <a:xfrm>
            <a:off x="762120" y="457200"/>
            <a:ext cx="7696080" cy="551988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1066680" y="6095880"/>
            <a:ext cx="708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ld State House under Union Occupation, 1863-1864.  Courtesy Ohio Historical Society.  Encyclopedia of Arkansa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crossing_river_argenta_f"/>
          <p:cNvPicPr/>
          <p:nvPr/>
        </p:nvPicPr>
        <p:blipFill>
          <a:blip r:embed="rId1"/>
          <a:stretch/>
        </p:blipFill>
        <p:spPr>
          <a:xfrm>
            <a:off x="609480" y="533520"/>
            <a:ext cx="5267520" cy="5638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5"/>
          <p:cNvSpPr/>
          <p:nvPr/>
        </p:nvSpPr>
        <p:spPr>
          <a:xfrm>
            <a:off x="6248520" y="13716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Text Box 17"/>
          <p:cNvSpPr/>
          <p:nvPr/>
        </p:nvSpPr>
        <p:spPr>
          <a:xfrm>
            <a:off x="6095880" y="1828800"/>
            <a:ext cx="259092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ed8d0"/>
                </a:solidFill>
                <a:latin typeface="Arial"/>
              </a:rPr>
              <a:t>Crossing the frozen Arkansas River from Little Rock to Argenta (Pulaski County), now North Little Rock; winter of 1876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ed8d0"/>
                </a:solidFill>
                <a:latin typeface="Arial"/>
              </a:rPr>
              <a:t>Courtesy of the Arkansas History Commission.  </a:t>
            </a:r>
            <a:r>
              <a:rPr b="0" lang="en-US" sz="1600" spc="-1" strike="noStrike">
                <a:solidFill>
                  <a:srgbClr val="ced8d0"/>
                </a:solidFill>
                <a:latin typeface="Arial"/>
              </a:rPr>
              <a:t>Encyclopedia of Arkansa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antiquepc311"/>
          <p:cNvPicPr/>
          <p:nvPr/>
        </p:nvPicPr>
        <p:blipFill>
          <a:blip r:embed="rId1"/>
          <a:stretch/>
        </p:blipFill>
        <p:spPr>
          <a:xfrm>
            <a:off x="685800" y="762120"/>
            <a:ext cx="807732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6a17392t"/>
          <p:cNvPicPr/>
          <p:nvPr/>
        </p:nvPicPr>
        <p:blipFill>
          <a:blip r:embed="rId1"/>
          <a:stretch/>
        </p:blipFill>
        <p:spPr>
          <a:xfrm>
            <a:off x="380880" y="4191120"/>
            <a:ext cx="8391600" cy="15764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304920" y="58672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Verdana"/>
              </a:rPr>
              <a:t>Haines Photo Co.; February 8, 1916.</a:t>
            </a:r>
            <a:r>
              <a:rPr b="0" lang="en-US" sz="24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Picture 4" descr="6a00970t"/>
          <p:cNvPicPr/>
          <p:nvPr/>
        </p:nvPicPr>
        <p:blipFill>
          <a:blip r:embed="rId2"/>
          <a:stretch/>
        </p:blipFill>
        <p:spPr>
          <a:xfrm>
            <a:off x="380880" y="609480"/>
            <a:ext cx="8382240" cy="1835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609480" y="25909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6666"/>
                </a:solidFill>
                <a:latin typeface="Verdana"/>
              </a:rPr>
              <a:t>Haines Photo Co.; April 28, 1910.</a:t>
            </a:r>
            <a:r>
              <a:rPr b="0" lang="en-US" sz="2400" spc="-1" strike="noStrike">
                <a:solidFill>
                  <a:srgbClr val="666666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4a23591r"/>
          <p:cNvPicPr/>
          <p:nvPr/>
        </p:nvPicPr>
        <p:blipFill>
          <a:blip r:embed="rId1"/>
          <a:stretch/>
        </p:blipFill>
        <p:spPr>
          <a:xfrm>
            <a:off x="914400" y="304920"/>
            <a:ext cx="7010280" cy="5629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380880" y="6172200"/>
            <a:ext cx="87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in Street, Little Rock, Arkansas.  Detroit Publishing Company, ca. 1900-192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609480" y="6324480"/>
            <a:ext cx="853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berty Parade, 1918.  Mosaic Templars Cultural Center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liberty-parade-1918"/>
          <p:cNvPicPr/>
          <p:nvPr/>
        </p:nvPicPr>
        <p:blipFill>
          <a:blip r:embed="rId1"/>
          <a:stretch/>
        </p:blipFill>
        <p:spPr>
          <a:xfrm>
            <a:off x="533520" y="228600"/>
            <a:ext cx="7543800" cy="58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010391pr"/>
          <p:cNvPicPr/>
          <p:nvPr/>
        </p:nvPicPr>
        <p:blipFill>
          <a:blip r:embed="rId1"/>
          <a:stretch/>
        </p:blipFill>
        <p:spPr>
          <a:xfrm>
            <a:off x="838080" y="533520"/>
            <a:ext cx="7620120" cy="54403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228600" y="624852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View from southeast. April 12, 1934. Reynolds. HABS ARK,60-LIRO,1-2, Library of Congr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8a16166r"/>
          <p:cNvPicPr/>
          <p:nvPr/>
        </p:nvPicPr>
        <p:blipFill>
          <a:blip r:embed="rId1"/>
          <a:stretch/>
        </p:blipFill>
        <p:spPr>
          <a:xfrm>
            <a:off x="533520" y="228600"/>
            <a:ext cx="7875360" cy="55497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838080" y="58672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nday in Little Rock Arkansas.  Ben Shahn, Oct. 193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22:08:00Z</dcterms:created>
  <dc:creator>Kristin  Mann</dc:creator>
  <dc:description/>
  <dc:language>en-US</dc:language>
  <cp:lastModifiedBy>laura.arnold</cp:lastModifiedBy>
  <dcterms:modified xsi:type="dcterms:W3CDTF">2012-08-17T15:54:33Z</dcterms:modified>
  <cp:revision>2</cp:revision>
  <dc:subject/>
  <dc:title>Historic Photos &amp; Postcards of Little Rock</dc:title>
</cp:coreProperties>
</file>